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9C2-D020-473F-824A-8EDC566C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EAD-8367-48CC-AAB0-2BB86C17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2F1-AF28-496E-A694-355EB273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C9D-4B44-43C5-A0B7-0A149532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B706-034B-4572-BFDA-69CF0352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E47-A4A0-4DCA-B95F-B9D847A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CAB0-6850-4817-93E8-66D1316C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AAB-51B4-44BF-8B40-2759989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1F6-C9AE-44F1-ADB2-AE698B6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8DED-3AE7-44A4-AEF1-8E9F8099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E3E3-DCB3-48BC-8149-B9EE0CE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5B0-2008-402B-B871-D9B0189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8FAC-4107-4B82-A3C3-61086874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BBF-3312-489B-A941-C811A9E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5C9-A63E-4CB3-A01F-9537BCD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6BEC-87F3-47A9-AB59-2E10E5B5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4FC-C092-46D4-B430-B6D4C95D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BA2-A6D6-44ED-AAC0-FCF348F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F46-589C-4D36-8168-3596BDB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98A-D7FA-456B-878F-433CC80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C7A-1001-40CB-894C-E51E78F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D21-A99C-4F4F-BE26-1EAD8C40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B77-46A9-4184-B5F1-350CD46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7D8-CD3A-4529-950A-93B0D7C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E551-3C8D-45D4-90B2-F698E9018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FB8-B4D2-479F-A7AF-A47CC1878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99640" y="1904760"/>
            <a:ext cx="8015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Mapas de Progreso</a:t>
            </a:r>
            <a:br>
              <a:rPr sz="4800"/>
            </a:b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para el Aprendizaje</a:t>
            </a:r>
            <a:br>
              <a:rPr sz="4800"/>
            </a:br>
            <a:r>
              <a:rPr b="0" lang="es-CL" sz="4800" spc="-1" strike="noStrike">
                <a:solidFill>
                  <a:srgbClr val="afe1ff"/>
                </a:solidFill>
                <a:latin typeface="Arial"/>
              </a:rPr>
              <a:t>Sector Educación Físi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ordinación Prácticas Profes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fesor Tomás Infestas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198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ecedentes Utilizado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s curriculares Intern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nadá, Australia, EEUU,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rmativa nacional, marcos curri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acion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pas de Progreso Canadi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res Ejes Temá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v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da Ac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Responsabilidad Individual y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885080" y="333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51640" y="42400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476360" y="4941720"/>
            <a:ext cx="15922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7080" y="297000"/>
            <a:ext cx="76982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Mapa Australia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67280" cy="4440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643280" y="5286240"/>
            <a:ext cx="4500720" cy="1571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435640" y="1619280"/>
            <a:ext cx="35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Knowledge and Understand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Skills for Physical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Self-management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nterpersonal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LANES ESPAÑO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MENSIONES o EJES CURR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885080" y="5661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0920" y="2852640"/>
            <a:ext cx="83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cimiento del Cuer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6840" indent="-96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ilidades y Destre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6840" indent="-96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uerpo en Movimiento: medio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unicación  y expres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6840" indent="-96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Jueg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1720" y="741600"/>
            <a:ext cx="8548200" cy="11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ructura actual Aplicada en la Educación Físi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nes y Programas de Educación Física del Minedu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rientación de Contenidos Mínimos Oblig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lementación de los Planes y Progra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aluación de los Progra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ahoma"/>
              </a:rPr>
              <a:t>Mapas en elabo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762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Lenguaje     Matemáticas  Cs. Naturales   Cs. Sociales     Ingl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514600"/>
            <a:ext cx="129528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1. L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2. Produ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de tex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3.Comunic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o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9680" y="1143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62520" y="1143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91320" y="1143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467480" y="1143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514600"/>
            <a:ext cx="137160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1.Número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op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2.Geometr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3.Datos y aza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4.Alge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5.Razonamien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matemát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514600"/>
            <a:ext cx="182880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1 Estructura y fun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de seres viv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2. Organism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ambien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3. La materi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la energía y s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transform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4. La fuerza y s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efec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5  La Tierra en e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universo</a:t>
            </a:r>
            <a:r>
              <a:rPr b="0" lang="es-ES" sz="1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2514600"/>
            <a:ext cx="144792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1. La socieda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perspecti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histó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2. Espaci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geográf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3. Democracia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particip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4. Desarroll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sostenible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2514600"/>
            <a:ext cx="129528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1. Comprens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lec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2. Expres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escr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3. Comprens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audi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4.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Expres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    </a:t>
            </a:r>
            <a:r>
              <a:rPr b="0" lang="es-CL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o</a:t>
            </a:r>
            <a:r>
              <a:rPr b="0" lang="es-ES" sz="1400" spc="-1" strike="noStrike">
                <a:solidFill>
                  <a:srgbClr val="0000ff"/>
                </a:solidFill>
                <a:latin typeface="Tahoma"/>
                <a:ea typeface="Times New Roman"/>
              </a:rPr>
              <a:t>ral</a:t>
            </a:r>
            <a:r>
              <a:rPr b="0" lang="es-ES" sz="1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7732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ff99"/>
                </a:solidFill>
                <a:latin typeface="Tahoma"/>
              </a:rPr>
              <a:t>Linn, R Y Herman, J. (1997) La evaluación impulsada por estándares. CRESST, L Ángele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ff99"/>
                </a:solidFill>
                <a:latin typeface="Tahoma"/>
              </a:rPr>
              <a:t>Forster, M. (2004)</a:t>
            </a:r>
            <a:r>
              <a:rPr b="0" lang="es-ES" sz="16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ahoma"/>
              </a:rPr>
              <a:t>Enfoque adoptado: Marco de Referencia comú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Combinación entre monitoreo interno y exter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" y="4170240"/>
            <a:ext cx="19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ándares de Desemp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iveles de Logro espe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286000" y="4038120"/>
            <a:ext cx="39672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01840" y="4572000"/>
            <a:ext cx="3049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09680" y="3429000"/>
            <a:ext cx="39708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49760" y="2286000"/>
            <a:ext cx="1371600" cy="55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9760" y="563868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49760" y="49528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49760" y="28954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9760" y="35812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9760" y="42670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063600" y="541008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0676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00"/>
                </a:solidFill>
                <a:latin typeface="Times New Roman"/>
              </a:rPr>
              <a:t>4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06760" y="317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00"/>
                </a:solidFill>
                <a:latin typeface="Times New Roman"/>
              </a:rPr>
              <a:t>2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27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00"/>
                </a:solidFill>
                <a:latin typeface="Times New Roman"/>
              </a:rPr>
              <a:t>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1557360"/>
            <a:ext cx="13716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ae8"/>
                </a:solidFill>
                <a:latin typeface="Times New Roman"/>
              </a:rPr>
              <a:t>Nivel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1981080"/>
            <a:ext cx="167652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320040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7960" y="23605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valuación de a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56680" y="274176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1520" y="2284560"/>
            <a:ext cx="288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valuación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M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68920" y="411948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ándares de Contenid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pas de Pro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97320" y="3962520"/>
            <a:ext cx="1295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259092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197320" y="4572000"/>
            <a:ext cx="12956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97320" y="4419720"/>
            <a:ext cx="1295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97320" y="4343040"/>
            <a:ext cx="1295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63600" y="403848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063600" y="373392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063600" y="335268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063600" y="304812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63600" y="5105520"/>
            <a:ext cx="6094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79132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00"/>
                </a:solidFill>
                <a:latin typeface="Arial"/>
              </a:rPr>
              <a:t>1° Bás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676520"/>
            <a:ext cx="29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00"/>
                </a:solidFill>
                <a:latin typeface="Arial"/>
              </a:rPr>
              <a:t>4° Medio sobresal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6324480"/>
            <a:ext cx="28080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8ae8"/>
                </a:solidFill>
                <a:latin typeface="Arial"/>
              </a:rPr>
              <a:t>Educación Parvul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Metas del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car  la educación a nivel nacional, respetando la realidad especif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 en practica  los planes en comú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rrollar procesos de Evaluación macro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er parámetros de Evaluación con Estándar de carácter  Intern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779400" y="390240"/>
            <a:ext cx="810432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Elementos constituyentes de los Mapa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del Sub sector Educación Física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s, Dimensiones  e Indicadore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 Vida acti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 Competencia motr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 Responsabilidad personal y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00000" y="3038040"/>
            <a:ext cx="7693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a activa (Aspectos Cognitiv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 motriz (Aspectos motr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abilidad personal y social (Aspectos afectivos soc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¿Qué es un Mapa de Progres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0629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Los mapas de progreso son una herramienta que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describe en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forma concisa el crecimiento (secuencia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típica) del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aprendizaje en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nive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Son marcos de referencia contra los cuales el logro y el avance pueden ser monitoreados y reportados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Esta descripción se acompaña de ejemplos de trabajo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de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los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Alumnos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que ilustran el aprendizaje característico de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cada</a:t>
            </a:r>
            <a:r>
              <a:rPr b="1" lang="es-MX" sz="28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99ff99"/>
                </a:solidFill>
                <a:latin typeface="Arial"/>
              </a:rPr>
              <a:t>ni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501120"/>
            <a:ext cx="125892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VIDA ACTIVA VISIÓN SINTÉT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476360" y="260280"/>
          <a:ext cx="7128000" cy="5757840"/>
        </p:xfrm>
        <a:graphic>
          <a:graphicData uri="http://schemas.openxmlformats.org/drawingml/2006/table">
            <a:tbl>
              <a:tblPr/>
              <a:tblGrid>
                <a:gridCol w="777960"/>
                <a:gridCol w="6350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8ae8"/>
                          </a:solidFill>
                          <a:latin typeface="Arial"/>
                          <a:ea typeface="Arial"/>
                        </a:rPr>
                        <a:t>Visión Sintét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ica  los cambios  que  experimenta el cuerpo humano, señala la importancia del cuidado de este, e incorpora hábitos de higiene personal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noce las condiciones de seguridad y protección que le ofrecen los espacios para la práctica de la actividad físic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noce las  consecuencias de la práctica de la actividad físicas sobre el organismo y la importancia en su desarrollo para ampliar  sus capacidades  y mantener una vida saludable. Aplica en su vida cotidiana  hábitos  de higiene personal  y ambiental</a:t>
                      </a: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Toma medidas de seguridad, para preservar la salud propia y la de sus compañero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Demuestra  poseer hábitos de práctica de la actividad física  y conocimiento de indicadores que le permiten controlar sus cambios a nivel físico. Identifica los efectos   del sedentarismo y sus  consecuencias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Considera medidas de seguridad en su desempeño  en su entorno mediato  y en el medio ambien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Incorpora la practica física como una actividad regular para  incrementar sus cualidades físicas 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 principios de seguridad personal  y colectiva utilizando medidas básicas en  la prevención de riesgos.  Establece medidas de cuidado  personal y  del medio ambient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abora y diferencia actividades orientadas al desarrollo de una mejora de su condición física. Conoce  y aplica medidas  de primeros auxilios   y  prevención de enfermedades infectocontagiosas. Presenta propuestas para el cuidado del medio ambiente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eña sus propios planes  para mejorar su condición física, registrando, analizando y evaluando los resultados de su práctica. Participa en programas</a:t>
                      </a: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 dicen relación a la higiene ambiental y con la   transmisión y    promoción de  la  salud.  Practica y difunde los conceptos de seguridad personal y grupal</a:t>
                      </a:r>
                      <a:r>
                        <a:rPr b="0" lang="es-CL" sz="1100" spc="-1" strike="noStrike">
                          <a:solidFill>
                            <a:srgbClr val="9933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ifica, 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aliza y perfecciona 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 propios programas de entrenamiento, de acuerdo a diferentes objetivos que éste tiene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, considerando  los factores asociados a su  desarrollo y crecimiento. Asume un rol protagónico al interior de la comunidad educativa en la promoción de campañas proyectos e iniciativas relacionadas</a:t>
                      </a:r>
                      <a:r>
                        <a:rPr b="0" lang="es-CL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 la salud,  el  bienestar, seguridad  y la practica de la actividad física permanente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49840" y="356040"/>
            <a:ext cx="134820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tét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otr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763640" y="549360"/>
          <a:ext cx="6985080" cy="5325840"/>
        </p:xfrm>
        <a:graphic>
          <a:graphicData uri="http://schemas.openxmlformats.org/drawingml/2006/table">
            <a:tbl>
              <a:tblPr/>
              <a:tblGrid>
                <a:gridCol w="658800"/>
                <a:gridCol w="63262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Visión Sintét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a y descubre   las posibilidades de movimiento, partiendo del más natural y espontáneo, ampliando las habilidades motrices básicas en  la realización de diversas tareas motoras y  juegos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en distintos contextos y entornos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 Identifica  la estructura y funciones del cuerpo humano para ejecutar tareas de locomoción, de manipulación y de estabilidad en el manejo de su propio cuerp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mplea  habilidades motrices  básicas de acuerdo a los propósitos de la tarea motriz. Resuelve tareas  de expresión que demanden combinaciones de estas habilidades. Diferencia las condiciones de ejecución de  tareas motrices individuales y/o grupales en entornos diversos, con o sin oponente. Comprende los principios tácticos simples de juego y los  aplica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dapta y comprende la ejecución  de las habilidades motrices  de acuerdo a los propósitos de la tarea motriz. Utiliza las habilidades motrices específicas para resolver tareas motrices de expresión, y al participar en  juegos deportivos. Reconoce  las exigencias  de la práctica que demanda utilización de  habilidades motrices específicas en situación de juegos  individuales y/o grupales en entornos diversos, con o sin oponente. Identifica y aplica  los principios tácticos de juego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tiliza de manera eficiente las habilidades motrices en diversos contextos y entornos. Evidencia en la practica el progreso de la habilidad a un nivel mas  especializado que conducen a la ejecución eficaz de las habilidad y al desempeño competente. Comprende  y aplica  los principios que sustentan la práctica sistemática de actividad física en actividades deportivas expresivas o al aire libre. Discrimina en la aplicación de principios tácticos del  juego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suelve tareas motoras evidenciando alternativas  de respuesta eficiente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corpora a la ejecución los ajustes que demanda la situación en las cuales realiza la tarea motora. Percibe la  información que se genera en las diversas situaciones  para adaptar de  sus ejecuciones a los requerimientos cualitativos  de las  tareas motoras. Desarrolla la capacidad de comprender y de aplicar los principios que sustentan la práctica  de los deportes  y del entrenamiento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neja conceptos de eficiencia y eficacia en la ejecución  de tareas motoras. Discrimina y selecciona  el tipo de ejercicio pertinente  para incorporar a  sus propios programas de entrenamiento. Se incorpora a la práctica de deportes convencionales y alternativos integrándose a grupos de interés. Aplica en situación de competencia reglamentada habilidades motrices especializadas. Utiliza estrategias de ataque y defensa y las reglas apropiadas del deporte. Evidencia creatividad en la ejecución de tareas de expresión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actica y organiza actividades tanto cooperativas como competitivas. Analiza acciones de movimientos para su ejecución en eficiencia y eficacia. Identifica y asume  las situaciones de tensión  que provoca el deporte de rendimiento. Planifica sus propios programas de entrenamiento, de acuerdo a diferentes objetivos que éste tiene. Compite activamente en deportes, ya sean convencionales o alternativo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76760" y="210960"/>
            <a:ext cx="165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sponsabil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979640" y="404640"/>
          <a:ext cx="6769080" cy="5294520"/>
        </p:xfrm>
        <a:graphic>
          <a:graphicData uri="http://schemas.openxmlformats.org/drawingml/2006/table">
            <a:tbl>
              <a:tblPr/>
              <a:tblGrid>
                <a:gridCol w="1022400"/>
                <a:gridCol w="5746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Visión Sintét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rticipa en actividades diversas explorando sus opciones (de ejecución), evidenciando desarrollo de  su autonomía, para desenvolverse adecuadamente en su medio, respetando al profesor en su rol y en su función. Comienza a definir su identidad como persona, se relaciona con compañeros comparte y juega  con otros. Entiende el propósito de las reglas en el juego y  su rol dentro en éste.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XPRESA  COMUNICA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entimientos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independencia. Respeta su turno, normas de actuación y convivencia que se generan en interacción con sus profesores y sus pares. Define su identidad, intenta superar situaciones que implican problema, se relaciona, comparte y juega  con otros aceptando la diversidad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resa confianza en sí mismo a través de la distinción entre lo correcto y lo incorrecto. Acepta liderazgo del profesor, respetándolo en el trabajo conjunto, al igual que a sus compañeros.  Manifiesta claramente sus gustos y disgustos. Continúa desarrollando habilidades para trabajar y jugar  con otros en busca de aceptación social  y del desarrollo de su capacidad de aceptación del otro, aportando alternativas de solución en situaciones de conflicto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muestra confianza y seguridad en situaciones diversas. Trata de superar dificultades, perseverando en las tareas. Propone solución a los conflictos respetando ideas de los otros, pero defendiendo las propias, aunque se cuestione negativamente. Comienza a definirse él mismo a través de opiniones, creencias y valores y aplica normas de comportamiento en la clase que las evidencian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nifiesta conductas positivas respecto a sí mismo. Demuestra ser constante en la práctica de la clase. Confía en sus propios recursos para el logro de sus metas. Demuestra compromiso por las normas éticas y da importancia a conductas responsables. Cuestiona o discrepa con respeto a las normas dadas. Trabaja con otros para lograr una meta común. Asume el rol de líder o de seguidor, valorando el trabajo colectivo. Evidencia capacidad crítica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 ejemplo para sus pares. Toma decisiones responsables</a:t>
                      </a: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 con sentido ético. Supera las barreras y temores en la práctica de la actividad física.</a:t>
                      </a: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epta el rol del profesor como guía y líder y lo asume como propio. Genera proyectos o propuestas. Ejerce el liderazgo y contribuye a la integración de todos. Contribuye a que los demás comprendan la importancia del trabajo colectivo y aporta a  la solución de conflicto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ae8"/>
                          </a:solidFill>
                          <a:latin typeface="Arial"/>
                          <a:ea typeface="Times New Roman"/>
                        </a:rPr>
                        <a:t>Nivel 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yecta una alta autoestima. Valora la importancia de la actividad física. Actúa con serenidad de manera consistente con las normas de conducta y del fair play. Incentiva y exige el juego limpio en los demás. Proyecta su liderazgo en la comunidad escolar, manifiesta pertenencia a grupos de referencia, organiza redes de apoyo y demuestra ser proactivo en generar ambientes de sana convivencia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60" y="289440"/>
            <a:ext cx="11818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ap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rogreso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j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ot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71640" y="0"/>
          <a:ext cx="8172360" cy="6608880"/>
        </p:xfrm>
        <a:graphic>
          <a:graphicData uri="http://schemas.openxmlformats.org/drawingml/2006/table">
            <a:tbl>
              <a:tblPr/>
              <a:tblGrid>
                <a:gridCol w="1233360"/>
                <a:gridCol w="693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ivel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unciad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ra y descubre   las posibilidades de movimiento, partiendo del más natural y espontáneo, ampliando las habilidades motrices básicas en  la realización de diversas tareas motoras y  juegos en distintos contextos y entornos. Identifica  la estructura y funciones del cuerpo humano para ejecutar tareas de locomoción, de manipulación y de estabilidad en el manejo de su propio cuerpo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68ae"/>
                          </a:solidFill>
                          <a:latin typeface="Arial"/>
                          <a:ea typeface="Times New Roman"/>
                        </a:rPr>
                        <a:t>Habilidades motric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do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una variedad de patrones de  locomoción  (Ej. Correr,  saltar, galopar,  resbalar, de acuerdo a sus posibilidades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una variedad de patrones no locomotores de movimiento. (Ej. Doblarse, girar en uno o ambos pies, estirarse, rotar, levantar)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duce objetos  con la  mano y con el  pie, patear, golpear en juegos individuales (Ej. Sortear obstáculos, postas, acertar a un blanco, grupales pinta con balón, con drible, con pases)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liza movimientos utilizando diferentes partes del cuerpo con variedades de ritmo y expresa sensaciones, emociones, ideas, conceptos (Ej. Dramatizaciones, imaginerías, representaciones)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una  variedad de patrones de manipulación   para el control de objetos. (Ej. Lanzar por abajo y por sobre la cabeza, atrapa libremente, hace rodar el balón por el cuerpo o partes del cuerpo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combinaciones simples de patrones motores  con control del cuerpo: Locomotrices, No locomotrices y manipulativas (Ej. correr y saltar, correr y pararse y correr , lanzar balón al aire atrapar luego de tocar el suelo con la mano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liza con control actividades de equilibrio en una variedad de partes del cuerpo (Ej. balance e un pie, en una mano y en un pie, manos y rodillas, usando implementos y apoyos en superficies disminuidas. Equilibrio amortiguando  caídas  (saltos y caídas con uno o dos pies, salto en profundidad y en longitud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neja su cuerpo en actividades de traslado en variedad de planos (Ej. Desplazarse de espaldas en diferentes direcciones con cambios rápidos y seguros sin caerse; girar en distintos sentidos, rodar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variedad de  habilidades motrices básicas con cambios  de intensidad, rápido/ lento, fuerte/ débil, central y periférico (Ej. marcha saltadas, galopas usando brazos según corresponda, caminar, correr, saltar con movimientos de brazos que empujan retienen, tiran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transiciones suaves y fluidas entre habilidades motrices secuenciales  (Ej. cambia velocidades y dirección en respuesta a varios ritmos, combina patrones de traslado a la músic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ptos principios y regla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do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ica las partes de su cuerpo como ejes del movimiento. (Ej. reconoce  las articulaciones / la columna vertebral : flexiones y extensiones  localizadas en diferentes articulaciones, rotar en el eje longitudinal, transversal)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ica su lado dominante, afirmando su lateralidad ( Ej. verifica en la acción, en tareas motrices de manipulación su lado hábil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ica y entiende un vocabulario de conceptos de movimientos básicos ( Ej: correr, saltar,  lanzar,   espacio personal, niveles: alto / bajo, velocidades: rápido / lento, pesos: livianos / pesados, equilibrio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iende términos que describen una variedad de relaciones con objetos ( Ej: Sobre/abajo, detrás, al lado, a través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conceptos en que evidencia darse cuenta del espacio y de control de movimientos con una variedad de habilidades motrices mientras interactúa   con otros. ( Ej: Corre mas rápido o  mas lento o  llega al mismo tiempo que, saltar en longitud y altura, brincar con la cuerda con  ritmos diferentes: rebote y de forma continua,)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onoce aciertos y errores de su propia ejecución motora. (Ej. se autoevalúa según pauta de tareas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onoce el espacio adaptándose a otros participantes  en juegos duales y grupales (Ej se aleja del que pilla, se escobe del que lo busca, se protege en una zona de resguardo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4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ica y sigue reglas simples en el juego (Ej acepta el inicio y termino del juego , juega pillando a otros tocando diversas partes del cuerpo,  considera los limites definidos para el juego,)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-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-738360"/>
            <a:ext cx="914400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50920" y="312840"/>
          <a:ext cx="8893080" cy="6545160"/>
        </p:xfrm>
        <a:graphic>
          <a:graphicData uri="http://schemas.openxmlformats.org/drawingml/2006/table">
            <a:tbl>
              <a:tblPr/>
              <a:tblGrid>
                <a:gridCol w="1395360"/>
                <a:gridCol w="749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ivel 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uncia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actica y organiza actividades tanto cooperativas como competitivas. Analiza acciones de movimientos para su ejecución en eficiencia y eficacia. Identifica y asume  las situaciones de tensión  que provoca el deporte de rendimiento. Compite activamente en deportes, ya sean convencionales o alternativo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bilidades motrice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una variedad de habilidades motrices especializadas de locomoción  para resolver una tarea de manera eficiente en situaciones diversas (Ej.: escalar, ascensos en  tracking  pendientes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jercita una variedad de habilidades no locomotoras de movimientos para el incremento de las capacidades físicas (Ej.: realiza ejercicios para mejorar musculatura: abdominales, dorsales, estiramientos, péndulos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jecuta elementos de movimiento de manera disociada, fluida y armónica (Ej.: corre desplazándose  en velocidad y controla la ejecución  de un lanzamiento, en situación de baile, se desplaza combinando giros y lanzamiento de la pareja, corre  ejecuta un salto y durante este  realiza un duplo con la cuerda.)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habilidades especializadas en el manejo de situaciones competitivas (Ej.: elude al contrincante con  dribling cambiando de altura,  mano y ubicación, en fútbol bicicleta, chilen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 incorpora a la práctica de deportes convencionales y deportes alternativos (Ej.: se integra  a selecciones y o grupos de interés de al menos un deporte de su preferencia: deportes de equipo con colaboración y oposición, deportes de oposición sin colaboración, o un deporte alternativo de entre las opciones ofrecidas por su unidad educativa)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estrategias de ataque , defensa y las reglas apropiadas del deporte (Ej.: resuelve la aplicación del   sistemas de ataque o defensa de acuerdo a las situación de juego que plantea  adversario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habilidades motrices especializadas en deportes individuales, duales y de equipo con sentido estratégico (Ej.; actúa aplicando anticipación perceptiv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2412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jecuta esquemas gimnásticos, danzas, bailes con control corporal, coordinación, expresión de sentimientos, en el manejo de implementos y en la interacción con otros (Ej.; lanzar y recibir sin control visual del implemento en una posición de equilibrio de acuerdo al ritmo de la música)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ó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ptos principios  y regl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dore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rimina niveles de eficiencia en ejercicios específicos en función de un programa personal de entrenamiento (Ej.: de acuerdo a los resultados selecciona los ejercicios mas adecuados para el logro de sus objetivos)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 los principios fisiológicos que afectan el mantenimiento y el incremento de la condición física (Ej.: planifica ejercicios de distinto requerimiento energético en ausencia o presencia de oxigeno, utiliza parámetros de desechos metabólicos para la elaboración de entrenamientos y determinación de pausas y descansos)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ueve  la práctica de la actividad física  y el efecto positivo en el organismo (Ej.: incentiva la práctica de actividad física y desarrolla proyectos de promoción del concepto salud y calidad de vida en su unidad educativ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ueve la organización y control de eventos deportivos (Ej.: crea talleres para el aprendizaje de reglamentos, arbitraje y mesa de control en su unidad educativ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ifica y lidera actividades de campamento (Ej.; asigna funciones y se hace cargo de supervisar  las actividades planificadas para el campamento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alúa su programa de entrenamiento de acuerdo a los requerimientos en función de los logros establecidos (Ej.: modifica su programa de entrenamiento de acuerdo  a los niveles de avance que manifiesta en su condición físic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iliza conceptos de la psicología deportiva que explican aspectos de su rendimiento (Ej.: control de la ansiedad, impulsividad, fatiga, manejo de conflictos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264960"/>
                          <a:tab algn="l" pos="110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undamenta  en la discusión la elaboración de su  programa de entrenamiento  y verifica sus niveles de logro (Ej. De acuerdo a sus requerimientos individuales considera principios y métodos de entrenamiento de la condición física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16200" y="368640"/>
            <a:ext cx="8164080" cy="11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¿ Cual es el propósito   de los Mapas de Progreso 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Son instrumentos que sirven  para monitorear sistemática y continuamente el aprendizaje y su progreso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Especifican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 la ejecución del aprendizaje que se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considera aceptable y/o deseable y evidencian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que se requiere para demostrar el logro de és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La EFI RESPETA el APRENDIZAJE MOTRI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68a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Co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ntribuyen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a las definiciones que se evalúan en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las pruebas de medición 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externas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estandarizadas de carácter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nacional internacional 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(standares de desempeño)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(SIMCE) (Niveles de</a:t>
            </a:r>
            <a:r>
              <a:rPr b="1" lang="es-MX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99ff99"/>
                </a:solidFill>
                <a:latin typeface="Arial"/>
              </a:rPr>
              <a:t>Logr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87452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ff"/>
                </a:solidFill>
                <a:latin typeface="Tahoma"/>
              </a:rPr>
              <a:t>Diagra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33360"/>
            <a:ext cx="8208720" cy="619128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557360"/>
            <a:ext cx="5334120" cy="4495680"/>
            <a:chOff x="2268360" y="1557360"/>
            <a:chExt cx="5334120" cy="449568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2268360" y="1668240"/>
              <a:ext cx="4978440" cy="41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491000" y="1557360"/>
              <a:ext cx="3111480" cy="44956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876920" y="3260880"/>
            <a:ext cx="24415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349360"/>
            <a:ext cx="2514600" cy="243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mentos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torear sistemát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continuamente el  aprendizaje y su progres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33520"/>
            <a:ext cx="7543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¿Qué son los Mapas de Progre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16400" y="319320"/>
            <a:ext cx="7711200" cy="5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Fundament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Dar coherencia y orientación a los sistemas educacionales en una sociedad en permanente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Articular los cinco componentes del sistema escolar  que deben estar integrados para afectar la c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Formación continua de doc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Evaluación de desempeño doc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Evaluación externa de aprendiza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Arial"/>
              </a:rPr>
              <a:t>Evaluación interna de aprendiza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bjetivos de los Map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En la practica cotidiana 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 trata  que el profeso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/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un sector de aprendizaje, en la educación  básica o media cualquiera, en un nivel y año determinado, sepa de antemano qué conocimientos deben alcanzar sus alumnos en un sector de aprendizaje al término del añ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256040" y="684360"/>
            <a:ext cx="785052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bjetivos de los Map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 Definir  un marco de referencia común para identificar 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gros y necesidades particulares de aprendizaje d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umnos, tanto para informarlos a ellos como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troalimentar la  enseñanza (diagnosticar/ planificar)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 de la prog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ablecer u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rco de referencia común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nitorear en determinados momentos la cercanía 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janía de los estudiante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ecto a las expect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ionales de logr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6720" y="574200"/>
            <a:ext cx="8170560" cy="5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bjetivos de los Map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un horizonte del sector o sub sector a lo largo de toda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xperiencia escolar de primero básico a cuarto med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ar una visión concisa de los dominio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entrales de cada sub sector y orientar lo que es import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xigen  renovar el Marco Desarrollo Curricular, elaborados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alidados  los Mapas es necesario hacer ajuste al marco (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MO) curriculum  por  habilidades y no por conten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1400" y="320760"/>
            <a:ext cx="87714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Qué elementos fueron  considerados  en su elabor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424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Integralidad del ser Humano (Motriz,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ectivo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ial y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gn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conocimiento de la realidad soc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peto por las etapas evolutivas del sujeto desde, para y por  la motric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Infraestructura utilizada en el sistema educativo act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álisis de Mapas de Desarrollo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álisis de Mapas de Desarrollo de otros sectores de aprendiz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álisis de los Planes y Programas de la Educación Física nacional vig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21:54:18Z</dcterms:created>
  <dc:creator>unab</dc:creator>
  <dc:description/>
  <dc:language>en-US</dc:language>
  <cp:lastModifiedBy>WinuE</cp:lastModifiedBy>
  <dcterms:modified xsi:type="dcterms:W3CDTF">2010-12-13T00:54:25Z</dcterms:modified>
  <cp:revision>33</cp:revision>
  <dc:subject/>
  <dc:title>Mapa de Progreso Actividad Física y Salud</dc:title>
</cp:coreProperties>
</file>